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7624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44000" y="662940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A5734781-5B29-43E8-A2D0-3288F21CEAE4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39B6-FF99-415C-B7F4-D878806073D0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120-0BCD-4C27-8776-D8E9BFD1820B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7606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2560" y="6629400"/>
            <a:ext cx="76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116E4D03-73AD-4353-9945-A81A0709C764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Vertrieb" descr=""/>
          <p:cNvPicPr/>
          <p:nvPr/>
        </p:nvPicPr>
        <p:blipFill>
          <a:blip r:embed="rId1"/>
          <a:stretch/>
        </p:blipFill>
        <p:spPr>
          <a:xfrm>
            <a:off x="304920" y="4127400"/>
            <a:ext cx="2743200" cy="16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e Smalltalk-Anwendung im Flächen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ürgen Buchn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22 S iNFORM Software GmbH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oethering 58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3067 Offenb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uergen.Buchner@1822-s-inform.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www.1822-s-inform.d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818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440160" cy="849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9880" y="2971800"/>
            <a:ext cx="305604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4600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626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Was ist OSP Vertrieb?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riebs- und Marketingsoftware für Spark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nneuan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verk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en über Kunden und Verträ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 änd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fgabensystem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ung und Durchführung von Marketingak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5427720" cy="4264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Benutzer von 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P Vertrieb ist derzeit bei ca. 40 Sparkassen im 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ößte Sparkasse ist die Frankfurter Sparkasse mit ca. 2000 Benutze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satz in bei weiteren Sparkassen in Hessen, Nordrhein-Westfalen, Rheinland-Pfalz und Baden-Württemberg gepl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296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542772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nschluss an den Hos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„juristischen Daten“ werden auf den Hostsystemen der Sparkassen Informatik gehal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auf diese Daten erfolgt über proprietäre Schnittstelle „PMS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chtzeitzugriff“ auf Salden, Umsätze us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sblic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lettierung der Geschäftsprozesse (z.B. Vertrag änder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„Verbundpartner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ervices in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Jobs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uchen für unseren Bereich Objektorientierte Client/Server Anwend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Ingenieure (m/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individuelle Softwareentwicklungen im Bereich Finanzdienstleistungen, mit Berufserfahrung oder als Hochschulabsol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Ihr Interesse geweckt? Über Details tauschen wir uns gerne persönlich mit Ihnen aus. Überzeugen Sie uns von Ihrer Qualifikation durch eine aussagefähige Bewerbung unter Angabe Ihres frühestmöglichen Eintrittster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1822 S iNFORM Software GmbH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oethering 58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63067 Offenbach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elefon (069) 829749-0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Telefax (069) 829749-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1822-s-inform.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zentrale Datenban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racle-Datenbank auf dem OSP Vertrieb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icher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iche Daten“: Hobbys, Akquisitionsansätze, 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ministrationsdaten: Produktdefinitionen, Organisationsstruktur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lektions-DB für Marketing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fgabensystem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 Java implementi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Benutzungsoberflä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ährende des „Jav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es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 entstande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bettung in Smalltalk über OLE-Steu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CP-IP Rückka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Implementierung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 VisualAge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4.700 Kl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50.000 Metho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: 5-10 Smalltalk-Entwick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5880" y="2362320"/>
            <a:ext cx="3429000" cy="1523880"/>
            <a:chOff x="6095880" y="2362320"/>
            <a:chExt cx="3429000" cy="1523880"/>
          </a:xfrm>
        </p:grpSpPr>
        <p:sp>
          <p:nvSpPr>
            <p:cNvPr id="110" name=""/>
            <p:cNvSpPr/>
            <p:nvPr/>
          </p:nvSpPr>
          <p:spPr>
            <a:xfrm>
              <a:off x="60958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WebSphere Appli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781680" y="2971800"/>
              <a:ext cx="1520640" cy="304560"/>
              <a:chOff x="6781680" y="2971800"/>
              <a:chExt cx="15206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6783120" y="2971800"/>
                <a:ext cx="1519200" cy="30456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1680" y="2971800"/>
                <a:ext cx="1492200" cy="2764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-Vertrieb W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0958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41040" y="2666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09680" y="2362320"/>
            <a:ext cx="3429000" cy="1523880"/>
            <a:chOff x="2209680" y="2362320"/>
            <a:chExt cx="3429000" cy="1523880"/>
          </a:xfrm>
        </p:grpSpPr>
        <p:sp>
          <p:nvSpPr>
            <p:cNvPr id="120" name=""/>
            <p:cNvSpPr/>
            <p:nvPr/>
          </p:nvSpPr>
          <p:spPr>
            <a:xfrm>
              <a:off x="22096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66688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Systemarchitektur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5410080"/>
            <a:ext cx="1447920" cy="459000"/>
            <a:chOff x="2209680" y="5410080"/>
            <a:chExt cx="1447920" cy="459000"/>
          </a:xfrm>
        </p:grpSpPr>
        <p:sp>
          <p:nvSpPr>
            <p:cNvPr id="128" name=""/>
            <p:cNvSpPr/>
            <p:nvPr/>
          </p:nvSpPr>
          <p:spPr>
            <a:xfrm>
              <a:off x="2209680" y="54100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563868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54100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Marketing-ba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09680" y="1523880"/>
            <a:ext cx="7404120" cy="886320"/>
            <a:chOff x="2209680" y="1523880"/>
            <a:chExt cx="7404120" cy="886320"/>
          </a:xfrm>
        </p:grpSpPr>
        <p:sp>
          <p:nvSpPr>
            <p:cNvPr id="132" name=""/>
            <p:cNvSpPr/>
            <p:nvPr/>
          </p:nvSpPr>
          <p:spPr>
            <a:xfrm>
              <a:off x="2209680" y="1523880"/>
              <a:ext cx="7315200" cy="838440"/>
            </a:xfrm>
            <a:prstGeom prst="rect">
              <a:avLst/>
            </a:pr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2760" y="2133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-Vertrieb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8120" y="1600200"/>
              <a:ext cx="1523520" cy="685080"/>
              <a:chOff x="3048120" y="1600200"/>
              <a:chExt cx="1523520" cy="685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049560" y="1600200"/>
                <a:ext cx="1522080" cy="6850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1600200"/>
                <a:ext cx="1495800" cy="64152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Smallta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ales, Marketing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743200" y="3657600"/>
            <a:ext cx="1828800" cy="2438280"/>
            <a:chOff x="2743200" y="3657600"/>
            <a:chExt cx="1828800" cy="2438280"/>
          </a:xfrm>
        </p:grpSpPr>
        <p:sp>
          <p:nvSpPr>
            <p:cNvPr id="138" name=""/>
            <p:cNvSpPr/>
            <p:nvPr/>
          </p:nvSpPr>
          <p:spPr>
            <a:xfrm>
              <a:off x="3657600" y="5181480"/>
              <a:ext cx="83808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541008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-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Orac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6576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886200"/>
              <a:ext cx="114300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14800" y="3657600"/>
            <a:ext cx="3200400" cy="1523880"/>
            <a:chOff x="4114800" y="3657600"/>
            <a:chExt cx="3200400" cy="1523880"/>
          </a:xfrm>
        </p:grpSpPr>
        <p:sp>
          <p:nvSpPr>
            <p:cNvPr id="143" name=""/>
            <p:cNvSpPr/>
            <p:nvPr/>
          </p:nvSpPr>
          <p:spPr>
            <a:xfrm>
              <a:off x="6629400" y="3657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JD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14800" y="3886200"/>
              <a:ext cx="281952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19760" y="3657600"/>
            <a:ext cx="1600560" cy="762120"/>
            <a:chOff x="7619760" y="3657600"/>
            <a:chExt cx="1600560" cy="762120"/>
          </a:xfrm>
        </p:grpSpPr>
        <p:sp>
          <p:nvSpPr>
            <p:cNvPr id="146" name=""/>
            <p:cNvSpPr/>
            <p:nvPr/>
          </p:nvSpPr>
          <p:spPr>
            <a:xfrm>
              <a:off x="830592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19760" y="3886200"/>
              <a:ext cx="114300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76640" y="4876920"/>
            <a:ext cx="4686480" cy="1724040"/>
            <a:chOff x="4076640" y="4876920"/>
            <a:chExt cx="4686480" cy="1724040"/>
          </a:xfrm>
        </p:grpSpPr>
        <p:sp>
          <p:nvSpPr>
            <p:cNvPr id="149" name=""/>
            <p:cNvSpPr/>
            <p:nvPr/>
          </p:nvSpPr>
          <p:spPr>
            <a:xfrm>
              <a:off x="4724280" y="594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487692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4876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IDV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2400" y="548640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5486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nlass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60958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60958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ufgaben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 flipV="1" rot="5400000">
              <a:off x="5501160" y="4624560"/>
              <a:ext cx="46800" cy="2896560"/>
            </a:xfrm>
            <a:prstGeom prst="curvedConnector5">
              <a:avLst>
                <a:gd name="adj1" fmla="val -496124"/>
                <a:gd name="adj2" fmla="val 49993"/>
                <a:gd name="adj3" fmla="val -496124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5" idx="1"/>
              <a:endCxn id="158" idx="3"/>
            </p:cNvCxnSpPr>
            <p:nvPr/>
          </p:nvCxnSpPr>
          <p:spPr>
            <a:xfrm rot="10800000">
              <a:off x="6971760" y="6095160"/>
              <a:ext cx="800640" cy="229320"/>
            </a:xfrm>
            <a:prstGeom prst="curvedConnector2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2"/>
              <a:endCxn id="153" idx="0"/>
            </p:cNvCxnSpPr>
            <p:nvPr/>
          </p:nvCxnSpPr>
          <p:spPr>
            <a:xfrm>
              <a:off x="8267400" y="533376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3" idx="2"/>
              <a:endCxn id="155" idx="0"/>
            </p:cNvCxnSpPr>
            <p:nvPr/>
          </p:nvCxnSpPr>
          <p:spPr>
            <a:xfrm>
              <a:off x="8267400" y="594324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34320" y="6324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91520" y="5105160"/>
              <a:ext cx="3808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657600"/>
            <a:ext cx="3581640" cy="2438280"/>
            <a:chOff x="4495680" y="3657600"/>
            <a:chExt cx="3581640" cy="2438280"/>
          </a:xfrm>
        </p:grpSpPr>
        <p:sp>
          <p:nvSpPr>
            <p:cNvPr id="164" name=""/>
            <p:cNvSpPr/>
            <p:nvPr/>
          </p:nvSpPr>
          <p:spPr>
            <a:xfrm>
              <a:off x="5867280" y="4419720"/>
              <a:ext cx="2210040" cy="304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5181480"/>
              <a:ext cx="83844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5410080"/>
              <a:ext cx="99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Zentrale 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DB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441972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Dynamische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3657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P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3886200"/>
              <a:ext cx="167652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934320" y="472428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2361960"/>
            <a:ext cx="2133360" cy="609480"/>
            <a:chOff x="3962520" y="2361960"/>
            <a:chExt cx="2133360" cy="609480"/>
          </a:xfrm>
        </p:grpSpPr>
        <p:sp>
          <p:nvSpPr>
            <p:cNvPr id="171" name=""/>
            <p:cNvSpPr/>
            <p:nvPr/>
          </p:nvSpPr>
          <p:spPr>
            <a:xfrm flipH="1" flipV="1">
              <a:off x="3962520" y="2361960"/>
              <a:ext cx="213336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4800" y="24382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72000" y="1600200"/>
            <a:ext cx="3809880" cy="685800"/>
            <a:chOff x="4572000" y="1600200"/>
            <a:chExt cx="3809880" cy="685800"/>
          </a:xfrm>
        </p:grpSpPr>
        <p:sp>
          <p:nvSpPr>
            <p:cNvPr id="174" name=""/>
            <p:cNvSpPr/>
            <p:nvPr/>
          </p:nvSpPr>
          <p:spPr>
            <a:xfrm>
              <a:off x="6794640" y="1600200"/>
              <a:ext cx="1498320" cy="685800"/>
            </a:xfrm>
            <a:prstGeom prst="rect">
              <a:avLst/>
            </a:prstGeom>
            <a:solidFill>
              <a:srgbClr val="ffec33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1600200"/>
              <a:ext cx="167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1981080"/>
              <a:ext cx="2209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7524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418640" y="4893120"/>
            <a:ext cx="2895840" cy="336240"/>
            <a:chOff x="4418640" y="4893120"/>
            <a:chExt cx="2895840" cy="336240"/>
          </a:xfrm>
        </p:grpSpPr>
        <p:cxnSp>
          <p:nvCxnSpPr>
            <p:cNvPr id="179" name=""/>
            <p:cNvCxnSpPr/>
            <p:nvPr/>
          </p:nvCxnSpPr>
          <p:spPr>
            <a:xfrm flipH="1" flipV="1" rot="5400000">
              <a:off x="5843160" y="3756240"/>
              <a:ext cx="46800" cy="2896200"/>
            </a:xfrm>
            <a:prstGeom prst="curvedConnector5">
              <a:avLst>
                <a:gd name="adj1" fmla="val 720155"/>
                <a:gd name="adj2" fmla="val 50000"/>
                <a:gd name="adj3" fmla="val 720155"/>
              </a:avLst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5104080" y="495288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7f"/>
                  </a:solidFill>
                  <a:latin typeface="Arial"/>
                </a:rPr>
                <a:t>Stat.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0:08:28Z</dcterms:created>
  <dc:creator>LOTHAR</dc:creator>
  <dc:description/>
  <dc:language>en-US</dc:language>
  <cp:lastModifiedBy>Dr. J. Buchner</cp:lastModifiedBy>
  <cp:lastPrinted>2001-12-06T08:21:28Z</cp:lastPrinted>
  <dcterms:modified xsi:type="dcterms:W3CDTF">2002-04-11T13:58:18Z</dcterms:modified>
  <cp:revision>308</cp:revision>
  <dc:subject/>
  <dc:title>Kein Folientitel</dc:title>
</cp:coreProperties>
</file>