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99BB7-C313-4282-B31D-33C02F4329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3712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E0665-749E-43FE-A8BC-C4820DAB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912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78394-5901-4B0D-94C7-104D7070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1120" y="18284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65040" y="18284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371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1120" y="41371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765040" y="41371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F868-D712-4311-B546-C52D341C14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4F02E-E33D-4AE7-8C03-43BB8FD3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8C73-C00D-463E-9071-217C75D7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CD5B-8432-427A-B517-13C2A3A8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EB1BE-AAC8-4568-B37F-35492C2C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533520"/>
            <a:ext cx="7696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64353-68CF-4B77-B54B-F024584A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692E1-A436-4230-867F-FE19E266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7912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14298-F8C8-49A8-97C5-28314A47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712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5CAD8-C6FE-4DAD-9613-2BA34ED7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micklei@philemonwork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D0FA-0D65-4793-A545-42AF068C7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23160" y="5665680"/>
            <a:ext cx="1098720" cy="974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39000" y="5681520"/>
            <a:ext cx="1071720" cy="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819920" y="6657480"/>
            <a:ext cx="1123920" cy="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943840" y="5667480"/>
            <a:ext cx="0" cy="993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839000" y="5681520"/>
            <a:ext cx="0" cy="94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5694480"/>
            <a:ext cx="1066680" cy="93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erminal Widget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rnest Micklei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ahoma"/>
              </a:rPr>
              <a:t>emicklei@philemonworks.com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mersfoort, The Netherland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ESUG 10t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Douai, August 29 200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Tahoma"/>
              </a:rPr>
              <a:t>Lis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275120" y="2378160"/>
            <a:ext cx="637272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 := TerminalWidget listClass in: (1@1 corner: 8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 items: #('ESUG' '10th' 'Douai' 'France' 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l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mag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275120" y="2378160"/>
            <a:ext cx="637272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age := TerminalWidget imageClass in: (1@1 corner: 8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age bitmap: (Bitmap fromFile: 'splash.bmp'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im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Menu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343520" y="1752480"/>
            <a:ext cx="6372720" cy="37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:= TerminalWidget menuClass in: (1@1 corner: 4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: '1. Stockrates' key: $1 do: [self startStockrateView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: '2. Accounts' key: $2 do: [self startAccountView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L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: '3. Invoices' key: $3 do: [self startInvoicesView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MenuBa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53880" y="1905120"/>
            <a:ext cx="6534360" cy="3501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:= TerminalWidget menuBarClass in: (1@1 corner: 1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add: 'File' key: $f menu: self file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add: 'Edit' key: $o menu: self edit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add: 'Help' key: $h menu: self help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menuB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erminal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top container for terminal window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 show, hide and (will in future) stack window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ementation is dialect specif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t requires minimal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idge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gets claim a region of the scre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 controller to handle keyboard ev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 model for storing its domain valu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n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the "V" in MV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en:send:to:, broadcast: (AO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haracte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lays a single character in some (fixed) fo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 display decoration (border line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n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mplementation challenge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racter (re)displa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putContro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haracter (re)display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ation: painting complete screen is too expensi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mage rectangles intersection is too expensi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get knows which characters to upd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t, does not help with overlapping OS-windows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eed double buff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nputControlle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ke the VW ParagraphEditor, but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reak text into lines, localizing updat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place CRLF with C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character takes up one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ursor can be beyond tex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ursor can be on CR posi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dopt color emphasi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crolling (vertically onl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 TA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Motivation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SI (Repetitive Strain Injui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st access to simple programs (=object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xplore mixed interfaces (pixels-ASCII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implest UI possi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odule for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Appearanc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ndow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get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racter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erties "inherited" by composition hierarch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ifiable at each "level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Appearance hierarchy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6553080" cy="3581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ObjectAppearance  (abstract superclass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eground background selectionForeground selectionBackgroun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Window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nt fontName characterWidth characterHeight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Widget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indowAppearance borderColor showBorderOnFocus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Character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idget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idgetApperanc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nds colors from parent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indowAppea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t can override values by replacing nil-val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lObjetAppearance&gt;&gt;backgroun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^background isNi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True:[self hasParent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True:[nil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False:[self parentAppearance background]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False:[background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haracterAppearanc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itially meant for per-character color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came obsolete when introducing EmphasizedTex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 rewrite of VW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ESUG' asEmphasizedTex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om: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: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Foreground: Color 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(dos) TextEdito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3915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(yet another) Class Browse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2549520"/>
            <a:ext cx="60199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Tahoma"/>
              </a:rPr>
              <a:t>Smalltalk Objects Shell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ell interface to an almost empty object space (imag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50482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hat's next to do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ementation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t of purpose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oring the "Smalltalk Objects Shell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hat's next to implemen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write InputContro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t tips from Samuel Shu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nish port from VAST to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 it on the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xt selection for InputContro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,copy,pas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ndle OS-pai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ild from Pollock XML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How to por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lay metho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raw a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raw a String charac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 col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spatch keyboard ev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andle focus ev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ave a window to paint 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almost) done for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widget displays an aspect of an object in a defined region of a windo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region is defined by a rectangular area of characters organized in rows and colum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yboard events are handled by the controller of the widget (MVC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 issue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to design characterbased applic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still be object-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do I need for client-server architec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be TELNET is fine, why b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ssing widgets? buttons,dropdow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 I really want to mimic Wind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Shell for Object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ivation for porting to "imageless"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objects in stead of just (fat)executa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nk about what objects are really powerful but do not need a U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D language gen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Useful?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-inventing wheels? (curse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mixing character-based and full graphics only just "yes we can do-it"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ll performance be acceptable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bout the result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an be done (what else would you expec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ight be usefu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ixing with other widgets not explor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Highly portable (to other dialect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ouseless ap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Example SmallScrip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549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erence module: PhilemonTerminalView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window | := Terminal windowClass in:(1@1 corner: 20@4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text | := Terminal textClass in:(2@2 corner: 19@39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 add: tex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 show: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562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.dll = 56kB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hank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wnload @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ttp://www.philemonworks.co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 (II)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 is a UI component that displays a grid of ASCII charact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 displaying, widgets map their contents to characters of that gr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 (III)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e classes ar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ositeWidget, Appearance,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oordinate system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14600" y="2743200"/>
          <a:ext cx="4267080" cy="2666880"/>
        </p:xfrm>
        <a:graphic>
          <a:graphicData uri="http://schemas.openxmlformats.org/drawingml/2006/table">
            <a:tbl>
              <a:tblPr/>
              <a:tblGrid>
                <a:gridCol w="473760"/>
                <a:gridCol w="474120"/>
                <a:gridCol w="474480"/>
                <a:gridCol w="473760"/>
                <a:gridCol w="474480"/>
                <a:gridCol w="474120"/>
                <a:gridCol w="473760"/>
                <a:gridCol w="474480"/>
                <a:gridCol w="47412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2566440" y="563868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rid at: (1@2)) = $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01920" y="19810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by Points: row@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Grid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rminal screen is showing a matrix of graphical characters organized in rows and column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rac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481640" y="3800520"/>
            <a:ext cx="1823400" cy="2069280"/>
            <a:chOff x="4481640" y="3800520"/>
            <a:chExt cx="1823400" cy="2069280"/>
          </a:xfrm>
        </p:grpSpPr>
        <p:sp>
          <p:nvSpPr>
            <p:cNvPr id="63" name=""/>
            <p:cNvSpPr/>
            <p:nvPr/>
          </p:nvSpPr>
          <p:spPr>
            <a:xfrm>
              <a:off x="448164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81640" y="54007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7196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71960" y="541008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3888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38880" y="54007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2920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29200" y="541008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8164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81640" y="43243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7196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71960" y="433404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3888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38880" y="43243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2920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29200" y="433404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Grid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olds collection of TerminalCharac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d/write strings to grid (matrix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or display onl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rminal OS-window holds 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ex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279440" y="2378160"/>
            <a:ext cx="599616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tx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text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xt := TerminalWidget textClass in: (1@1 corner: 8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xt string: 'This is a Smalltalk terminal application'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tx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3T08:49:26Z</dcterms:created>
  <dc:creator>Philemon</dc:creator>
  <dc:description/>
  <dc:language>en-US</dc:language>
  <cp:lastModifiedBy>emicklei</cp:lastModifiedBy>
  <dcterms:modified xsi:type="dcterms:W3CDTF">2002-08-29T14:35:32Z</dcterms:modified>
  <cp:revision>88</cp:revision>
  <dc:subject/>
  <dc:title>No Slide Title</dc:title>
</cp:coreProperties>
</file>